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EFE-885F-4D47-9CBC-8175CB00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ABC2-0DAA-44BB-9B29-222111CF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7280-6557-40F9-BB67-E4657B25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58D0-7635-44FB-A3D3-BAB42E05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CF40-396A-4AC7-AE0A-70791431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1065-A7C0-49B1-A5DF-FA8C5D5F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5CD3-D45C-4715-8558-1E5033A9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E44D-3909-4B01-A614-3D248789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422F-7FFA-4682-8257-D8CE612B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D81A-7EF6-4A4E-B1FE-B25C4DE4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6CAD-72BC-4F6F-87E2-39B62CE6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55DB-DA3C-4464-A836-038C378A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777E-29EB-4050-A908-824913E0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08DC-B3E1-42B1-9F68-5111636E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E37F-7E49-456E-A5FE-38BC1DAF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8103-3E8C-458E-A358-84559E8B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F8D6-1287-4F47-B39D-C940513B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6869E-09E2-4372-BA7B-4B120B72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8D251-7D46-4969-8268-5266A0BE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A6EE6-5160-47DD-B49A-FF0B3622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BB0DB-997B-4AC0-AFB4-429090E1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32FC8-96E0-42A8-9423-2DE4B240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68C-A254-4187-8DFE-31858EDE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E4301-8513-4997-AF24-997553D6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692C3-3226-4A07-8C3A-38DF196E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9FBA0-CBF0-4625-863D-853315FB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577EA-3FA7-4575-86D6-9E39DE3B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9EA22-BF9D-454A-ADD1-A962448A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5640-6FCB-4AFF-B149-AEE539AA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54960-1137-470D-965A-18B618D7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3CA4A-E0D9-42C8-908E-FE31AEA1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D5342-1E16-4F49-A71B-F4F1B449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B4E8A-69A4-4107-85AD-8C4D5AE3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2E7-A798-412E-9B8E-43502767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8CAC5-DC34-44FF-9D6C-C6D03C83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72D1D-5956-4728-9A8A-48977A85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E6865-672B-4CB7-89CF-731B008D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808D7-FC5B-42B1-8972-A43F2559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7FF83-CC1C-458D-88AB-C4B8CC21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EC230-7FEF-4064-AC49-6A5737C3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5A1CD-74CE-4032-A6CF-A9910495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6F2BB-78F8-43B9-8764-144FCF8C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929A3-1077-459F-B0FF-53A83E48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4B8C3-8E6A-4C05-9F90-9A283C4E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701-FEEA-44A4-979F-DAF8159A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CD635-4661-43D7-A6A9-AC6CB80E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5CD10-E9DE-48DF-B7B0-98666442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F329A-D948-4896-A227-439E09DC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A0980-3A46-42D2-8655-9118DFD1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789AD-592C-46AF-A9DB-19825746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794F9-0F06-4E94-98D3-D85C67CD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112FD-1827-4D25-AA86-19831EB4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8F0D8-FA6B-4A5C-9E37-C83BC739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9AF7A-D298-40EA-B659-9AA1B2F8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7AC8B-97D9-4F54-A5DE-7171D7CC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080B-C29D-4AB1-B95C-E4C51044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ED56F-9248-426D-97DF-7D9D495E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2CCE3-E6C3-47A7-A9E9-5AB6B986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9C226-A610-40FC-B8C5-F2BCEC88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63ADF-FF3E-4B9D-B5AD-310E7404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B1F7B-9777-4B29-B294-E6477FF1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F6587-E38A-4ABF-A253-69862013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D464A-EA30-44B2-B743-12D29BD9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D5143-7B87-4CE0-B25B-E5E57C9D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0BD84-0244-4932-B4F5-A4DCB0C7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7E3FC-7824-4AFD-8035-F42B6AC2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6BAC-3999-46D1-9209-F48F464F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91947-6C6F-488E-AE6B-A63F2E48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83B7C-BBC2-4351-ADD2-876F222A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937F2-F8FA-478A-B9BB-9E558E73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07D38-BDFF-4FA2-939E-CCC55F3D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2E821-88CE-460B-8ED0-E6C7602E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0BF87-902C-4277-BC86-BA6D2F33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0EC9A-25C1-458B-A44F-49963F26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96B47-5E22-41F8-B8A7-E3056FA2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99A9B-90FC-4AAD-923C-352B9D3F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A9631-FCCC-4ECE-A3B1-6D2BA58F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401A-26B0-4EF7-8E48-8366DC62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4BF10-683B-4CF4-9F1C-FFB98C46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7C0EF-FF5C-4B8B-90B9-BA0BBCC9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C56A7-9409-4413-8760-8A2EBAF2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C1DD3-4AFF-4BAC-A89D-E625E06A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0431B-FA58-4052-990A-647570CC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E543C-2D02-4516-8C02-082ADA8D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7C555-DEFA-41E3-85D6-18DB2BC8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6F43D-F66D-45A0-BF77-DE1B4344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9BC7A-EBD0-4B8D-88D9-10A660DB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DAE59-8F04-4F76-A4FE-DEFDF3E0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FDF6-D44D-47C2-80E4-E6C6448F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77D6C-E2F7-47ED-BB1E-A69AD7C1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AE7E7-6294-4DB0-9A00-6C0B07DD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EB400-B303-42B9-9807-44409EEA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00E61-A271-42F8-9A03-0C5DA1BA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884B4-787C-4983-B783-F305E3D6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903E1-7FFE-4CC8-9E8C-EC70983E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46072-5E78-4984-80B4-969A0274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1DBD-7F77-44BC-8471-BF03C6E5243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DD1C-0714-4207-80F9-5BD9887E15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0916-7C1C-4829-B36C-A4D7F0E9CB77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6B62-2D1B-4366-8E2D-6689FB3A773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30F2-ADD2-445A-ACC9-B16FA28EAE1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8618-30C7-41FA-B5AD-85772E7093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32A9-176B-4EF0-BFB3-8907120400D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B5A4-4D4F-45A4-85A7-B934171CB9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1697-2A2C-405F-BEF7-D121628B18F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0161-7F24-48AD-A873-4AD62989F3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FB92-D958-4C1D-BDB3-C8A4524D005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B567-90A4-4536-9FC1-7183B6CF81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A40F-7F31-4CEB-AC94-590EFE8361E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9D00-6627-451C-8562-6B9CF8F6EF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30D8-653C-4BA7-9B03-E47BDD897A2E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913D-9AB9-4578-BF30-1A7C1C28045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Evaluare/Lista%20verificare_prezentare_GN.doc" TargetMode="External"/><Relationship Id="rId2" Type="http://schemas.openxmlformats.org/officeDocument/2006/relationships/hyperlink" Target="file:///../Evaluare/Lista%20verificare_prezentare_GN.doc" TargetMode="External"/><Relationship Id="rId3" Type="http://schemas.openxmlformats.org/officeDocument/2006/relationships/hyperlink" Target="file:///../Evaluare/Lista%20verificare_prezentare_GN.doc" TargetMode="External"/><Relationship Id="rId4" Type="http://schemas.openxmlformats.org/officeDocument/2006/relationships/hyperlink" Target="file:///../Evaluare/Lista%20verificare_prezentare_GN.doc" TargetMode="External"/><Relationship Id="rId5" Type="http://schemas.openxmlformats.org/officeDocument/2006/relationships/hyperlink" Target="file:///../Evaluare/Lisata%20verificare_%20publicatie_GN.doc" TargetMode="External"/><Relationship Id="rId6" Type="http://schemas.openxmlformats.org/officeDocument/2006/relationships/hyperlink" Target="file:///../Evaluare/Lisata%20verificare_%20publicatie_GN.doc" TargetMode="External"/><Relationship Id="rId7" Type="http://schemas.openxmlformats.org/officeDocument/2006/relationships/hyperlink" Target="file:///../Evaluare/Lisata%20verificare_%20publicatie_GN.doc" TargetMode="External"/><Relationship Id="rId8" Type="http://schemas.openxmlformats.org/officeDocument/2006/relationships/hyperlink" Target="file:///../Evaluare/Lisata%20verificare_%20publicatie_GN.doc" TargetMode="External"/><Relationship Id="rId9" Type="http://schemas.openxmlformats.org/officeDocument/2006/relationships/hyperlink" Target="file:///../Evaluare/Lisata%20verificare_%20publicatie_GN.doc" TargetMode="External"/><Relationship Id="rId10" Type="http://schemas.openxmlformats.org/officeDocument/2006/relationships/hyperlink" Target="file:///../Evaluare/Lisata%20verificare_%20publicatie_GN.doc" TargetMode="External"/><Relationship Id="rId11" Type="http://schemas.openxmlformats.org/officeDocument/2006/relationships/hyperlink" Target="file:///../Evaluare/Lista%20verificare_wiki_GN.doc" TargetMode="External"/><Relationship Id="rId12" Type="http://schemas.openxmlformats.org/officeDocument/2006/relationships/hyperlink" Target="file:///../Evaluare/Jurnal%20de%20reflectie_GN.doc" TargetMode="External"/><Relationship Id="rId13" Type="http://schemas.openxmlformats.org/officeDocument/2006/relationships/hyperlink" Target="file:///../Evaluare/Grila%20de%20scorare_invest&amp;prezentare_interevaluare_GN.doc" TargetMode="External"/><Relationship Id="rId14" Type="http://schemas.openxmlformats.org/officeDocument/2006/relationships/hyperlink" Target="file:///../Evaluare/Descriptori_prezentare_GN.htm" TargetMode="External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Produse_model" TargetMode="External"/><Relationship Id="rId2" Type="http://schemas.openxmlformats.org/officeDocument/2006/relationships/hyperlink" Target="file:///../Produse_model/Prezentare%20Atom_ElevGN.pps" TargetMode="External"/><Relationship Id="rId3" Type="http://schemas.openxmlformats.org/officeDocument/2006/relationships/hyperlink" Target="http://organizare.wik.is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Fisa%20de%20lucru_Stari%20de%20agregare_GN.doc" TargetMode="External"/><Relationship Id="rId2" Type="http://schemas.openxmlformats.org/officeDocument/2006/relationships/hyperlink" Target="file:///../Produse_model/Brosura_Elev_GN.doc" TargetMode="External"/><Relationship Id="rId3" Type="http://schemas.openxmlformats.org/officeDocument/2006/relationships/hyperlink" Target="http://dwb.unl.edu/chemistry/dochem/DoChem080.html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C:\Documents and Settings\Mom\Desktop\World Wide03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D3EE-1CCF-480B-BF8E-E4488175B2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3" name="World Wide2.avi" descr=""/>
          <p:cNvPicPr/>
          <p:nvPr/>
        </p:nvPicPr>
        <p:blipFill>
          <a:blip r:embed="rId2"/>
          <a:stretch/>
        </p:blipFill>
        <p:spPr>
          <a:xfrm>
            <a:off x="2819520" y="2374920"/>
            <a:ext cx="3581280" cy="267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700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762120" y="1676160"/>
            <a:ext cx="1828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Elementele sunt la fel?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514600" y="12949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Obiective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 face predicţii asupra proprietăţilor cuprului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realiza o comparaţie Na-Fe-Cu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ffffff"/>
                </a:solidFill>
                <a:latin typeface="Lucida Sans Unicode"/>
              </a:rPr>
              <a:t>*Veţi</a:t>
            </a:r>
            <a:r>
              <a:rPr b="0" i="1" lang="en-US" sz="1600" spc="-1" strike="noStrike">
                <a:solidFill>
                  <a:srgbClr val="ffffff"/>
                </a:solidFill>
                <a:latin typeface="Lucida Sans Unicode"/>
              </a:rPr>
              <a:t> investig</a:t>
            </a:r>
            <a:r>
              <a:rPr b="0" i="1" lang="ro-RO" sz="16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i="1" lang="en-US" sz="1600" spc="-1" strike="noStrike">
                <a:solidFill>
                  <a:srgbClr val="ffffff"/>
                </a:solidFill>
                <a:latin typeface="Lucida Sans Unicode"/>
              </a:rPr>
              <a:t> comportarea</a:t>
            </a:r>
            <a:r>
              <a:rPr b="0" i="1" lang="ro-RO" sz="1600" spc="-1" strike="noStrike">
                <a:solidFill>
                  <a:srgbClr val="ffffff"/>
                </a:solidFill>
                <a:latin typeface="Lucida Sans Unicode"/>
              </a:rPr>
              <a:t> cuprului în vederea descoperirii unor proprietăţi comune cu sodiul, dar şi a unor proprietăţi diferite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afla despre reactivitatea metalelor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arcini de lucru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Realizaţi  o prezentare pe flipchart  a activităţii independente referitoare la proprietăţi predictibile ale Cu, precum şi comparaţia elementelor Na-Fe-Cu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Postaţi afişele voastre, realizaţi turul galeriei şi faceţi completări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rificaţi  veridicitatea concluziilor voastre pe baza tabelului reactivităţii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ffffff"/>
                </a:solidFill>
                <a:latin typeface="Lucida Sans Unicode"/>
              </a:rPr>
              <a:t>*Folosiţi informaţia de pe site-ul: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Lucida Sans Unicode"/>
              </a:rPr>
              <a:t>*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Lucida Sans Unicode"/>
              </a:rPr>
              <a:t>http://dwb.unl.edu/chemistry/dochem/DoChem054.htm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ffffff"/>
                </a:solidFill>
                <a:latin typeface="Lucida Sans Unicode"/>
              </a:rPr>
              <a:t>pentru a vă desfăşura activitatea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762120" y="1676160"/>
            <a:ext cx="1828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Elementele sunt la fel?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514600" y="15238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Obiective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 investiga proprietăţile clorului în vederea descoperirii caracterului nemetalic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afla despre reactivitatea diferită a halogenilor realizând o comparaţie Cl-Br-I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discuta legătura covalentă în cazul moleculelor de clor şi acid clorhidric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prez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nt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rezultatele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compara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ţiei 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Na-Cl/ *</a:t>
            </a:r>
            <a:r>
              <a:rPr b="0" i="1" lang="ro-RO" sz="1600" spc="-1" strike="noStrike">
                <a:solidFill>
                  <a:srgbClr val="ffffff"/>
                </a:solidFill>
                <a:latin typeface="Lucida Sans Unicode"/>
              </a:rPr>
              <a:t>Na –Cu ,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realizată pe baza investigaţiei voastre</a:t>
            </a:r>
            <a:r>
              <a:rPr b="0" i="1" lang="ro-RO" sz="1600" spc="-1" strike="noStrike">
                <a:solidFill>
                  <a:srgbClr val="ffffff"/>
                </a:solidFill>
                <a:latin typeface="Lucida Sans Unicode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într-o publicaţie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/ prezentare/ wiki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arcini de lucru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Folosiţi fişa de lucru pentru desfăşurarea activităţii voastre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Lucraţi la prezentare/ publicaţie/ wiki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Completa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i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o-RO" sz="1600" spc="-1" strike="noStrike">
                <a:solidFill>
                  <a:srgbClr val="ffffff"/>
                </a:solidFill>
                <a:latin typeface="Arial"/>
              </a:rPr>
              <a:t>lista de verificare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şi </a:t>
            </a:r>
            <a:r>
              <a:rPr b="0" i="1" lang="ro-RO" sz="1600" spc="-1" strike="noStrike">
                <a:solidFill>
                  <a:srgbClr val="ffffff"/>
                </a:solidFill>
                <a:latin typeface="Arial"/>
              </a:rPr>
              <a:t>grila de scorare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pentru produsul vostru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762120" y="1676160"/>
            <a:ext cx="1828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i="1" lang="ro-RO" sz="1600" spc="-1" strike="noStrike">
                <a:solidFill>
                  <a:srgbClr val="ffffff"/>
                </a:solidFill>
                <a:latin typeface="Berlin Sans FB Demi"/>
              </a:rPr>
              <a:t>C</a:t>
            </a:r>
            <a:r>
              <a:rPr b="0" i="1" lang="en-US" sz="1600" spc="-1" strike="noStrike">
                <a:solidFill>
                  <a:srgbClr val="ffffff"/>
                </a:solidFill>
                <a:latin typeface="Berlin Sans FB Demi"/>
              </a:rPr>
              <a:t>um sunt organizate elementele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514600" y="15238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Obiective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 discuta despre structura învelişului electronic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afla despre regulile completării cu electroni a straturilor şi substraturilor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scrie configuraţii electronice pentru atomii unor elemente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explora structuri electronice/ </a:t>
            </a:r>
            <a:r>
              <a:rPr b="0" i="1" lang="ro-RO" sz="1600" spc="-1" strike="noStrike">
                <a:solidFill>
                  <a:srgbClr val="ffffff"/>
                </a:solidFill>
                <a:latin typeface="Lucida Sans Unicode"/>
              </a:rPr>
              <a:t>*configuraţii electronice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ale atomilor unui set de elemente pentru a descoperi aranjarea elementelor în Tabelul periodic, în grupe şi perioade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arcini de lucru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Folosiţi fişa de lucru pentru desfăşurarea activităţii voastre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Urmăriţi prezentarea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plica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ţi  </a:t>
            </a:r>
            <a:r>
              <a:rPr b="0" i="1" lang="ro-RO" sz="1600" spc="-1" strike="noStrike">
                <a:solidFill>
                  <a:srgbClr val="ffffff"/>
                </a:solidFill>
                <a:latin typeface="Arial"/>
              </a:rPr>
              <a:t>grila de scorare_investigaţie şi prezentare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pentru această prezentare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762120" y="1676160"/>
            <a:ext cx="1828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i="1" lang="ro-RO" sz="1600" spc="-1" strike="noStrike">
                <a:solidFill>
                  <a:srgbClr val="ffffff"/>
                </a:solidFill>
                <a:latin typeface="Berlin Sans FB Demi"/>
              </a:rPr>
              <a:t>C</a:t>
            </a:r>
            <a:r>
              <a:rPr b="0" i="1" lang="en-US" sz="1600" spc="-1" strike="noStrike">
                <a:solidFill>
                  <a:srgbClr val="ffffff"/>
                </a:solidFill>
                <a:latin typeface="Berlin Sans FB Demi"/>
              </a:rPr>
              <a:t>um sunt organizate elementele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514600" y="15238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Obiective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 descoperi cum sunt aranjate elementele în Tabelul periodic prin explorarea proprietăţilor unui set de elemente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ffffff"/>
                </a:solidFill>
                <a:latin typeface="Lucida Sans Unicode"/>
              </a:rPr>
              <a:t>*Veţi face predicţii asupra proprietăţilor unor elemente “lipsă”  din Tabelul periodic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ffffff"/>
                </a:solidFill>
                <a:latin typeface="Lucida Sans Unicode"/>
              </a:rPr>
              <a:t>Veţi face predicţii asupra configuraţiilor unor elemente “lipsă” din tabel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arcini de lucru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Folosiţi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fişa de lucru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pentru desfăşurarea activităţii voastre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762120" y="1676160"/>
            <a:ext cx="1828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i="1" lang="ro-RO" sz="1600" spc="-1" strike="noStrike">
                <a:solidFill>
                  <a:srgbClr val="ffffff"/>
                </a:solidFill>
                <a:latin typeface="Berlin Sans FB Demi"/>
              </a:rPr>
              <a:t>C</a:t>
            </a:r>
            <a:r>
              <a:rPr b="0" i="1" lang="en-US" sz="1600" spc="-1" strike="noStrike">
                <a:solidFill>
                  <a:srgbClr val="ffffff"/>
                </a:solidFill>
                <a:latin typeface="Berlin Sans FB Demi"/>
              </a:rPr>
              <a:t>um sunt organizate elementele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514600" y="15238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Obiective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ă veţi  documenta pe tema descoperirii unor metale şi/ sau pe tema “tabelelor periodice” de-a lungul timpului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prez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nt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rezultatele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documentării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 într-o publicaţie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/ prezentare/ wiki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arcini de lucru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Urmăriţi prezentarea site-ului creat de colegi: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Lucida Sans Unicode"/>
              </a:rPr>
              <a:t>organizare.wik.is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plica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ţi </a:t>
            </a:r>
            <a:r>
              <a:rPr b="0" i="1" lang="ro-RO" sz="1600" spc="-1" strike="noStrike">
                <a:solidFill>
                  <a:srgbClr val="ffffff"/>
                </a:solidFill>
                <a:latin typeface="Arial"/>
              </a:rPr>
              <a:t>grila de scorare_investigaţie şi prezentare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pentru </a:t>
            </a:r>
            <a:br>
              <a:rPr sz="1600"/>
            </a:b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site-ul analizat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Lucraţi la prezentare/ publicaţie/ wiki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Completa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i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o-RO" sz="1600" spc="-1" strike="noStrike">
                <a:solidFill>
                  <a:srgbClr val="ffffff"/>
                </a:solidFill>
                <a:latin typeface="Arial"/>
              </a:rPr>
              <a:t>lista de verificare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şi </a:t>
            </a:r>
            <a:r>
              <a:rPr b="0" i="1" lang="ro-RO" sz="1600" spc="-1" strike="noStrike">
                <a:solidFill>
                  <a:srgbClr val="ffffff"/>
                </a:solidFill>
                <a:latin typeface="Arial"/>
              </a:rPr>
              <a:t>grila de scorare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pentru produsul vostru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80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762120" y="1676160"/>
            <a:ext cx="1828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i="1" lang="ro-RO" sz="1600" spc="-1" strike="noStrike">
                <a:solidFill>
                  <a:srgbClr val="ffffff"/>
                </a:solidFill>
                <a:latin typeface="Berlin Sans FB Demi"/>
              </a:rPr>
              <a:t>C</a:t>
            </a:r>
            <a:r>
              <a:rPr b="0" i="1" lang="en-US" sz="1600" spc="-1" strike="noStrike">
                <a:solidFill>
                  <a:srgbClr val="ffffff"/>
                </a:solidFill>
                <a:latin typeface="Berlin Sans FB Demi"/>
              </a:rPr>
              <a:t>um sunt organizate elementele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514600" y="15238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Obiective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realiza o 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prez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nt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are a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unuia din produsele elaborate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 în timpul  proiectului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susţine oral prezentarea voastră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arcini de lucru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Lucraţi la prezentare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olosi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ţi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 descrierea criteriilor din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o-RO" sz="1600" spc="-1" strike="noStrike">
                <a:solidFill>
                  <a:srgbClr val="ffffff"/>
                </a:solidFill>
                <a:latin typeface="Arial"/>
              </a:rPr>
              <a:t>descriptori prezentare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atunci când elaboraţi prezentarea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Aplicaţi, individual, grila de scorare pentru toate prezentările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225360" y="73080"/>
            <a:ext cx="84679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Documents and Settings\Mom\Desktop\World Wide Pic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42200" cy="4535640"/>
          </a:xfrm>
          <a:prstGeom prst="rect">
            <a:avLst/>
          </a:prstGeom>
          <a:ln w="0">
            <a:noFill/>
          </a:ln>
        </p:spPr>
      </p:pic>
      <p:sp>
        <p:nvSpPr>
          <p:cNvPr id="37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4A1A-BDCB-4A70-9183-4053FF6DF2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2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450800"/>
            <a:ext cx="8242560" cy="4559400"/>
          </a:xfrm>
          <a:prstGeom prst="rect">
            <a:avLst/>
          </a:prstGeom>
          <a:ln w="0">
            <a:noFill/>
          </a:ln>
        </p:spPr>
      </p:pic>
      <p:sp>
        <p:nvSpPr>
          <p:cNvPr id="37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15C8-0305-4E48-AF34-0049C9C817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Veţi cre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 prezentare/ publicaţie/ site wiki pentru prima întrebare a unităţii: “Care este nivelul de organizare specific solidelor, lichidelor sau gazelor?”, 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Termen: la sfârşitul lecţiei 4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 prezentare/ publicaţie/ site wiki pentru a doua întrebare a unităţii: “Elementele sunt la fel?“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     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Termen: la sfârşitul lecţiei 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 prezentare/ publicaţie/ site wiki pentru a treia întrebare a unităţii: “Cum sunt organizate elementele?”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       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Termen: la sfârşitul lecţiei 1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Fiecare grup va crea: o prezentare, o publicaţie şi un site, fiecare dintre produse va răspunde la una din cele trei întrebări ale unităţii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6840" y="1481040"/>
            <a:ext cx="838188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 prezent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nuia din produse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proiectului, care va fi susţinută de fiecare grup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Termen: în cadrul lecţiei 14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a1f28"/>
                </a:solidFill>
                <a:latin typeface="Arial Rounded MT Bold"/>
              </a:rPr>
              <a:t>Folosiţi toate instrumentele de control furnizate pe parcursul derulării proiectului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l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ist</a:t>
            </a:r>
            <a:r>
              <a:rPr b="0" lang="ro-RO" sz="1800" spc="-1" strike="noStrike" u="sng">
                <a:solidFill>
                  <a:srgbClr val="ff8119"/>
                </a:solidFill>
                <a:uFillTx/>
                <a:latin typeface="Arial"/>
                <a:hlinkClick r:id="rId3"/>
              </a:rPr>
              <a:t>ă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4"/>
              </a:rPr>
              <a:t> verificare prezentare</a:t>
            </a:r>
            <a:r>
              <a:rPr b="0" lang="en-US" sz="1800" spc="-1" strike="noStrike">
                <a:solidFill>
                  <a:srgbClr val="da1f28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ff8119"/>
                </a:solidFill>
                <a:uFillTx/>
                <a:latin typeface="Arial"/>
                <a:hlinkClick r:id="rId5"/>
              </a:rPr>
              <a:t>l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6"/>
              </a:rPr>
              <a:t>ist</a:t>
            </a:r>
            <a:r>
              <a:rPr b="0" lang="ro-RO" sz="1800" spc="-1" strike="noStrike" u="sng">
                <a:solidFill>
                  <a:srgbClr val="ff8119"/>
                </a:solidFill>
                <a:uFillTx/>
                <a:latin typeface="Arial"/>
                <a:hlinkClick r:id="rId7"/>
              </a:rPr>
              <a:t>ă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8"/>
              </a:rPr>
              <a:t> verificare publica</a:t>
            </a:r>
            <a:r>
              <a:rPr b="0" lang="ro-RO" sz="1800" spc="-1" strike="noStrike" u="sng">
                <a:solidFill>
                  <a:srgbClr val="ff8119"/>
                </a:solidFill>
                <a:uFillTx/>
                <a:latin typeface="Arial"/>
                <a:hlinkClick r:id="rId9"/>
              </a:rPr>
              <a:t>ţ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10"/>
              </a:rPr>
              <a:t>ie</a:t>
            </a:r>
            <a:r>
              <a:rPr b="0" lang="en-US" sz="1600" spc="-1" strike="noStrike">
                <a:solidFill>
                  <a:srgbClr val="da1f28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ff8119"/>
                </a:solidFill>
                <a:uFillTx/>
                <a:latin typeface="Arial"/>
                <a:hlinkClick r:id="rId11"/>
              </a:rPr>
              <a:t>listă verificare site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ff8119"/>
                </a:solidFill>
                <a:uFillTx/>
                <a:latin typeface="Arial"/>
                <a:hlinkClick r:id="rId12"/>
              </a:rPr>
              <a:t>jurnal de reflecţie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ff8119"/>
                </a:solidFill>
                <a:uFillTx/>
                <a:latin typeface="Arial"/>
                <a:hlinkClick r:id="rId13"/>
              </a:rPr>
              <a:t>grilă de scorare investigaţie şi prezentare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f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ul fie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 ore v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eta jurnalul de refle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Timp de lucru: 5 minut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a1f28"/>
                </a:solidFill>
                <a:latin typeface="Arial Rounded MT Bold"/>
              </a:rPr>
              <a:t>Folosiţi pentru alcătuirea prezentării final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ff8119"/>
                </a:solidFill>
                <a:uFillTx/>
                <a:latin typeface="Arial"/>
                <a:hlinkClick r:id="rId14"/>
              </a:rPr>
              <a:t>descriptori evaluare _prezentare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Portofoliul personal al fiecăruia dintre voi va cuprin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O publicaţie, o prezentare şi un site wiki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Listele de verificare completate pentru fiecare produs prezentat de profesor şi pentru fiecare produs elaborat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rilele de scorare _investigaţie şi prezentare, completate pentru fiecare produs prezentat de profesor, pentru propriile produse şi pentru prezentările finale ale celorlate grupe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escriptori_prezentare, completată în cadrul grupului, pentru propriul produs final elaborat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Jurnalul de reflecţie, completat pentru fiecare lecţi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2E4D-EE20-439D-A375-03D97ED221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ţ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urm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i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ş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nali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e ba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list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r de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 verificare primite, trei produse ale unor colegi de-ai voştri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o </a:t>
            </a:r>
            <a:r>
              <a:rPr b="0" lang="ro-RO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broşură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 care aduce un răspuns la prima întrebare a unităţii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o </a:t>
            </a:r>
            <a:r>
              <a:rPr b="0" lang="ro-RO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prezentare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 care aduce un răspuns la a doua întrebare a unităţii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un site wiki: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organizare.wik.is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 care aduce un răspuns la ce-a de-a treia întrebare a unităţi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5FC5-99EB-4D48-8E2D-A980D235AB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Title 3" descr=""/>
          <p:cNvPicPr/>
          <p:nvPr/>
        </p:nvPicPr>
        <p:blipFill>
          <a:blip r:embed="rId4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761760" y="1752480"/>
            <a:ext cx="19047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ro-RO" sz="2100" spc="-1" strike="noStrike">
                <a:solidFill>
                  <a:srgbClr val="ffffff"/>
                </a:solidFill>
                <a:latin typeface="Berlin Sans FB Demi"/>
              </a:rPr>
              <a:t>Care este nivelul de organizare specific solidelor, lichidelor şi gazelor</a:t>
            </a:r>
            <a:r>
              <a:rPr b="0" lang="ro-RO" sz="1900" spc="-1" strike="noStrike">
                <a:solidFill>
                  <a:srgbClr val="ffffff"/>
                </a:solidFill>
                <a:latin typeface="Berlin Sans FB Demi"/>
              </a:rPr>
              <a:t>?</a:t>
            </a:r>
            <a:endParaRPr b="0" lang="en-US" sz="19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514600" y="15238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Arial"/>
              </a:rPr>
              <a:t>Obiective: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investig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comportarea solidelor/ lichidelor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/ 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gazelor în vederea conceptualizării caracterului particular al materiei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prez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nt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rezultatele investigaţiei  într-o publicaţie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/ prezentare/ wiki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Arial"/>
              </a:rPr>
              <a:t>Sarcini de lucru: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Folosiţi </a:t>
            </a:r>
            <a:r>
              <a:rPr b="0" lang="ro-RO" sz="16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fişa de lucru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pentru desfăşurarea activităţii voastre; 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Urmăriţi prezentarea </a:t>
            </a:r>
            <a:r>
              <a:rPr b="0" lang="ro-RO" sz="16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broşurii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 şi pe baza acesteia sau folosind informaţiile de pe site-urile: 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dwb.unl.edu/chemistry/dochem/DoChem080.htm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Lucida Sans Unicode"/>
              </a:rPr>
              <a:t>http://dwb.unl.edu/Chemistry/MicroScale/MScale13.html</a:t>
            </a:r>
            <a:r>
              <a:rPr b="0" i="1" lang="en-US" sz="1600" spc="-1" strike="noStrike">
                <a:solidFill>
                  <a:srgbClr val="ffffff"/>
                </a:solidFill>
                <a:latin typeface="Lucida Sans Unicode"/>
              </a:rPr>
              <a:t>şi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*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Lucida Sans Unicode"/>
              </a:rPr>
              <a:t>http://dwb.unl.edu/chemistry/dochem/DoChem042.htm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desfăşuraţi activitatea voastră în continuare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   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plica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ţi  </a:t>
            </a:r>
            <a:r>
              <a:rPr b="0" i="1" lang="ro-RO" sz="1600" spc="-1" strike="noStrike">
                <a:solidFill>
                  <a:srgbClr val="ffffff"/>
                </a:solidFill>
                <a:latin typeface="Lucida Sans Unicode"/>
              </a:rPr>
              <a:t>grila de scorare_investigaţie şi prezentare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 pentru broşură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   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Lucraţi la prezentare/ publicaţie/ wiki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Completa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i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o-RO" sz="1600" spc="-1" strike="noStrike">
                <a:solidFill>
                  <a:srgbClr val="ffffff"/>
                </a:solidFill>
                <a:latin typeface="Arial"/>
              </a:rPr>
              <a:t>lista de verificare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şi </a:t>
            </a:r>
            <a:r>
              <a:rPr b="0" i="1" lang="ro-RO" sz="1600" spc="-1" strike="noStrike">
                <a:solidFill>
                  <a:srgbClr val="ffffff"/>
                </a:solidFill>
                <a:latin typeface="Arial"/>
              </a:rPr>
              <a:t>grila de scorare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, pentru produsul propriu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4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762120" y="1676160"/>
            <a:ext cx="1828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Elementele sunt la fel?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514600" y="15238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Obiective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discuta modalitatea de studiu a unui element chimic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investig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proprietăţile sodiului în vederea descoperirii caracterului metalic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face predicţii asupra proprietăţilor fierului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explora modul de formare a clorurii de sodiu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discuta legătura ionică din NaCl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arcini de lucru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Folosiţi  fişa de lucru pentru desfăşurarea activităţii voastr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19:32:12Z</dcterms:created>
  <dc:creator>Mom</dc:creator>
  <dc:description/>
  <dc:language>en-US</dc:language>
  <cp:lastModifiedBy>Mom</cp:lastModifiedBy>
  <dcterms:modified xsi:type="dcterms:W3CDTF">2007-08-18T08:33:00Z</dcterms:modified>
  <cp:revision>206</cp:revision>
  <dc:subject/>
  <dc:title>Slide 1</dc:title>
</cp:coreProperties>
</file>